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856-9AF4-4472-A3A0-1D76B49F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55F-E0DD-466C-A50D-3BDA622D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7D676-1B27-46EA-B2AC-0FECC704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35B2F-3B45-4707-938C-6CCAA752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46CA6-BDE4-4A42-A14D-F525B1AD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9C025D-191D-464F-875D-F0A1A80D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DF963-8F59-47B6-9E71-1CF3A5D1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21BFB-45D9-4D7B-BD5B-95422DD6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5F2DF-FB9A-45B5-88C1-F6BB2850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CAD9D-C9F9-43E2-9775-7E8AFF8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DE4B0-C289-4ADA-9560-41EA8686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A3A75-1964-4222-A5F3-54FE8617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3C21-B06E-4467-99F5-11C1F9FF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BF774-14C1-4B8F-9FFA-963AFD4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F0A01-8D87-4295-B353-4248280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7ACE82-88A2-45E8-9122-A662D5D5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43A57-45C2-4D8F-BDD5-32BD512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0A6DA-0044-45A7-B15E-15DE6F4D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08FE8-38B6-47B3-831A-086888BD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D946E-B378-4A0B-AF0F-32777530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6CB80-8311-40FA-B891-06EAA860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1B312-5360-4E1E-A2C4-AB7413AC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3E92B-5610-4D7B-873B-206FE7BF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811F-E2DC-4544-8FAF-71340074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BEBB7-56FD-4546-BE23-450FEA86C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94CD-ED63-441F-BFBF-E3AEC2B4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5D2-2974-4487-9690-3B6FF791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2FC7-FEE6-4970-A5D6-950CE57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2C68-8B75-4031-A4AC-F45D7C8D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C220-91E8-4A79-8B90-889706E0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480C-6A0F-4C33-AACA-0632BBA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6821-2C79-4107-8125-DBEC116A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8C2-E399-4A70-988F-1FEE9C04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956A-401F-4339-83F0-6CE41C19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9C4C-966D-4920-ABBF-87709CE9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4530-1C84-40BE-A2D4-0F4C39C5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6781-456E-4123-B15D-E2ED46F2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93C6E-8662-4ADF-B011-6B649269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847D-C7DD-4D02-A3B7-4F53CA27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B6D8-890E-4B25-BBCA-A102D141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7E8C2-0170-4168-A5DC-03D490B1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EE2C-6BF5-45C5-9B78-253AFC49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7E8A1-7190-49EA-A061-E5047DD6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842-A7D3-4FB3-B385-705EFC2C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56A76-7666-4FA2-9419-F3E286B8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047FB-021D-48D8-87C2-A504A23F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214A-B932-4117-8698-C524CB6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8567-B3E1-42F0-868B-DB76625F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452FA-5FBD-4CBE-A24A-C42E8AC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F6CF4-4518-43B5-A480-B12ED81D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0E14-746B-48D8-A7B7-DDA59EAA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77D2C-1313-452B-8699-AE5AE081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A45DF-699E-4923-8956-C96BC69A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4E7D9-E05B-4474-B245-3BE095C7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027-3F0F-47B6-9061-7C8B196D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6A19-A407-408E-90FD-2AD857E4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54D4-620D-4C84-B2A3-C9C5CA42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43508-675A-4DE1-86BB-8560C07E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C8CF-C90D-4813-B910-797F908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5B5E-3F20-40B0-B371-D90ADC70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3D778-45D8-4C86-987A-8ADA85B6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0C48C-8B3D-4299-AFCD-FB354310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EBAAC-B452-491D-9029-B1CC1250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CC7CE-2FA1-4137-BB8A-8471C5C2A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9AD4D-BE0A-444E-90DB-099A22432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1624-C3EF-4B7E-9135-DF02F132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9A38A-51F0-44BA-80B3-6751DD03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9B61-AF48-4918-B4C0-720F5738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BB78A-8F0A-4DCB-8948-F71A3147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8F91-60D3-4B7B-8751-1BAD30CF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34D6-D928-470D-8977-A1D1E186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946E3-2DC0-4F6D-B7EA-D03807D5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EC457-4CE9-4332-8C8E-7F7FC3EA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88523-F504-472C-973E-64AD7C63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3CF44-67A7-4947-881A-4DB4CB6A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92A2F-FE28-4D91-9198-07D03B3D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5E0-5886-4947-A3DB-42AC983E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A2D2C-8290-460E-B5A0-9DEAC745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AEFEE-2D34-4881-8891-B957E253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76E2C-0E55-4669-B466-F288BB7C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EB55A-CD41-46DD-A5AE-ACF6A7E5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DCB57-3BA2-4FC5-B209-BF7E6214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916C1-2463-488C-B02B-7CE2E354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931D0-1F9C-4B01-9BC5-9ED6BED3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88627-2A60-4806-AC0A-FBCF5F35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38491-1E83-482F-AAE6-00A1DF91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2C55-762A-4074-B18F-6FFBC01F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A555-EE83-40D5-B583-55577143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04590-5FBE-46EA-AA9D-FF643A2B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66D47-AF08-40A4-AD22-06D316D1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F1BA-6D8E-4F3D-BA0C-7EA3AD001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DC059-EBFA-4566-AA35-FFC6559B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FB10-40D4-4659-A459-95CD521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C5A68-7A15-4BBB-AFAC-CBC5E0F9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D6FB-7BBA-43F0-8810-A4ECE45C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E51C4-D724-452A-9A04-B263D672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1D37-7D33-49C6-8559-B246DFA9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1D0D8-B6B1-4415-BBA9-DEC7B792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CC1F-4CB3-48B3-930F-93D9723F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6F941-F456-4F23-822A-C11C1CC1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88694-423C-4460-A0CE-A455EE9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BAE3-74BF-425E-BD70-8468DE8E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0ED4A-206F-438E-AFC2-BBD119A6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815B5-6B06-4BA4-8E35-6A72FD2F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0F32B-2C1C-4657-9577-41262AC2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41176-3C2A-4C19-B7CE-5A814A84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B157-A51E-439E-ACF8-812EDAF8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0E0DC-EC53-480D-84DB-DAAEB1DE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260F8-812D-49E8-84B8-09F8FE0CE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2AB4-F051-45DD-9069-CDBD055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2CD82-975F-4420-9469-A35BAEA0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75EDB-D2A0-497B-AC71-E22C37B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9B808-548F-4117-A53D-18B902EE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CF0F-2306-4DA9-854E-718A5241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7E4DB-8257-41DD-B007-03A44DB5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A82A0-7E4B-4692-B20C-0C654C0C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D7358-A71E-443D-84F3-F30D7A66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33292-26B8-42E9-8D81-0ADB9561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9E14B-39BD-4311-9A46-EBF76AFA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57AC2-AC01-4BEB-82AC-5B609DAA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A9AE-64A3-4770-9A80-52926644450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2CD1-6772-48F9-8216-4825EF8B5D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AE93-CA91-4DC0-8A01-512887565C0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B13-B9A5-4A24-BCDD-54ABB0D1C35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5C37-71C3-4ED1-89F3-AF23AD7C95E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F08A-AD6D-49DE-8F7B-61EA8CE1FF8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39F9-92CE-4E6C-8179-C8B6BC35E6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3EE8-4565-44E5-8673-65FA30DED9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A077-DF9C-4770-B510-929FA818D6A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1B0E-3FCD-43D8-8523-5A07097E97D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6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사과가 있습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	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라디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텔레비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풍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에어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언니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tretch/>
        </p:blipFill>
        <p:spPr>
          <a:xfrm>
            <a:off x="5364000" y="3881520"/>
            <a:ext cx="1743120" cy="2619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사과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있습니까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=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팝니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리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배도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주머니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요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배는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사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p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be verb), exist,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t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주머니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married) woman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저씨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없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no, do not exist, have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also, ~ too; a su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도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나는 한국말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중국말도 압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학교에서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집에서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창문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연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enc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시간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화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neak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냉면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Naengmye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소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Soju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라디오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radi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선풍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ectric f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언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남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담배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igaret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약속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promi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볼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all pe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돈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맥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be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카드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car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텔레비젼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에어컨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air-conditio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오빠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elder broth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여동생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  <a:ea typeface="맑은 고딕"/>
              </a:rPr>
              <a:t>younger sis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창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담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약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2556000" y="273852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5" descr=""/>
          <p:cNvPicPr/>
          <p:nvPr/>
        </p:nvPicPr>
        <p:blipFill>
          <a:blip r:embed="rId2"/>
          <a:stretch/>
        </p:blipFill>
        <p:spPr>
          <a:xfrm>
            <a:off x="4946760" y="2732040"/>
            <a:ext cx="2209680" cy="148896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"/>
          <p:cNvPicPr/>
          <p:nvPr/>
        </p:nvPicPr>
        <p:blipFill>
          <a:blip r:embed="rId3"/>
          <a:stretch/>
        </p:blipFill>
        <p:spPr>
          <a:xfrm>
            <a:off x="6986520" y="2489040"/>
            <a:ext cx="2162160" cy="21146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"/>
          <p:cNvPicPr/>
          <p:nvPr/>
        </p:nvPicPr>
        <p:blipFill>
          <a:blip r:embed="rId4"/>
          <a:stretch/>
        </p:blipFill>
        <p:spPr>
          <a:xfrm>
            <a:off x="2575080" y="482760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8" descr=""/>
          <p:cNvPicPr/>
          <p:nvPr/>
        </p:nvPicPr>
        <p:blipFill>
          <a:blip r:embed="rId5"/>
          <a:stretch/>
        </p:blipFill>
        <p:spPr>
          <a:xfrm>
            <a:off x="5292720" y="4627440"/>
            <a:ext cx="2114640" cy="216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있습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        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아니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가 없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과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"/>
          <p:cNvPicPr/>
          <p:nvPr/>
        </p:nvPicPr>
        <p:blipFill>
          <a:blip r:embed="rId2"/>
          <a:stretch/>
        </p:blipFill>
        <p:spPr>
          <a:xfrm>
            <a:off x="5202360" y="3419640"/>
            <a:ext cx="1987560" cy="1304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1" descr=""/>
          <p:cNvPicPr/>
          <p:nvPr/>
        </p:nvPicPr>
        <p:blipFill>
          <a:blip r:embed="rId3"/>
          <a:stretch/>
        </p:blipFill>
        <p:spPr>
          <a:xfrm>
            <a:off x="6918480" y="3419640"/>
            <a:ext cx="2185920" cy="14349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2" descr=""/>
          <p:cNvPicPr/>
          <p:nvPr/>
        </p:nvPicPr>
        <p:blipFill>
          <a:blip r:embed="rId4"/>
          <a:stretch/>
        </p:blipFill>
        <p:spPr>
          <a:xfrm>
            <a:off x="2603520" y="5219640"/>
            <a:ext cx="2952720" cy="15526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3" descr=""/>
          <p:cNvPicPr/>
          <p:nvPr/>
        </p:nvPicPr>
        <p:blipFill>
          <a:blip r:embed="rId5"/>
          <a:stretch/>
        </p:blipFill>
        <p:spPr>
          <a:xfrm>
            <a:off x="5796000" y="4941720"/>
            <a:ext cx="262872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  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있습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연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볼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3443400" y="2205000"/>
            <a:ext cx="2017440" cy="15112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"/>
          <p:cNvPicPr/>
          <p:nvPr/>
        </p:nvPicPr>
        <p:blipFill>
          <a:blip r:embed="rId2"/>
          <a:stretch/>
        </p:blipFill>
        <p:spPr>
          <a:xfrm>
            <a:off x="5508720" y="2185920"/>
            <a:ext cx="1590480" cy="1656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"/>
          <p:cNvPicPr/>
          <p:nvPr/>
        </p:nvPicPr>
        <p:blipFill>
          <a:blip r:embed="rId3"/>
          <a:stretch/>
        </p:blipFill>
        <p:spPr>
          <a:xfrm>
            <a:off x="7093080" y="2185920"/>
            <a:ext cx="1946160" cy="14572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3467160" y="374976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5"/>
          <a:stretch/>
        </p:blipFill>
        <p:spPr>
          <a:xfrm>
            <a:off x="3443400" y="4894200"/>
            <a:ext cx="1558800" cy="1189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"/>
          <p:cNvPicPr/>
          <p:nvPr/>
        </p:nvPicPr>
        <p:blipFill>
          <a:blip r:embed="rId6"/>
          <a:stretch/>
        </p:blipFill>
        <p:spPr>
          <a:xfrm>
            <a:off x="5219640" y="433224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맥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소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편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카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4500720" y="2766960"/>
            <a:ext cx="2171520" cy="21049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2"/>
          <a:stretch/>
        </p:blipFill>
        <p:spPr>
          <a:xfrm>
            <a:off x="6676920" y="2766960"/>
            <a:ext cx="1233720" cy="924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3"/>
          <a:stretch/>
        </p:blipFill>
        <p:spPr>
          <a:xfrm>
            <a:off x="6683400" y="3691080"/>
            <a:ext cx="1233360" cy="92376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4"/>
          <a:stretch/>
        </p:blipFill>
        <p:spPr>
          <a:xfrm>
            <a:off x="4500720" y="4756320"/>
            <a:ext cx="1218960" cy="2050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5"/>
          <a:stretch/>
        </p:blipFill>
        <p:spPr>
          <a:xfrm>
            <a:off x="6516720" y="4703760"/>
            <a:ext cx="1558800" cy="1797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1-05T15:57:37Z</dcterms:modified>
  <cp:revision>95</cp:revision>
  <dc:subject/>
  <dc:title>KOREAN LANGUAGE</dc:title>
</cp:coreProperties>
</file>